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move the slide</a:t>
            </a:r>
            <a:endParaRPr b="0" lang="en-US" sz="5000" spc="-1" strike="noStrike">
              <a:solidFill>
                <a:srgbClr val="c9c2d1"/>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621B-AC17-4000-83DD-38D5F91FFFD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AB20-C139-4774-8035-7427BFC69D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A99B-5536-45C7-9F37-928712D8CD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E107-9B7F-4A5C-A263-53A214C675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46CC-60CB-4158-8983-EE3E7C1500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FA5F-2E67-4495-A83E-9C4EEFB314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CC470-118B-41AF-A9FD-4FB65B80A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1AD4-755B-499F-9B75-01028925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A674-2CEC-4647-BA83-81AEE8CBA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34755-8B2D-4C5B-981C-A56855A1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3925E-D8AF-49DE-BEB3-5C8F4E823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8F501-D1E4-4497-AB96-CBEEFFF67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7E485-6C8D-4690-B329-71E63B3B0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D62C0-CB05-4FEE-A33E-437F4AF30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0EBC2-3809-429F-8AF3-5D06FC8F8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45A7C-ABD3-4CAE-947F-2ADE3032D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68308-E51D-44F9-801D-160FDFF34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0388-DEEE-40E3-8BAC-8F8E4EB5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32FC8-EEEB-4372-917D-634C4EC8F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72842-E8D5-4EF4-B290-CCACC6105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01555-F10B-45A0-8A55-4228B7505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DF902-675C-4487-9A5D-1DA74316E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D2076-A8DA-432F-97D7-178F44947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CAC860-23CD-40AA-A527-77C76DD03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86E31-FA57-4EBF-A3AE-AC759F491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B992B-A81A-4A17-9143-5723C6062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1A069-0BA2-45BF-98E8-BB65C2EEE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120F0-1F58-47BE-A94B-637A6AF7C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6852-F57C-4AC1-B08D-53C5807AD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D399F-B72F-43BB-B5CC-EB2BF0ECF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8B470-00C9-4AE9-9A11-BA776E4D8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4141F-C14C-465B-B054-B89487D3C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0975D-59A2-4B68-B054-D1E86A3FD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F4B01-477F-4335-91F0-C44D387A5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EA97B1-7AF4-4BCA-B38E-706D21CE5A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968F3-7B68-4ED5-9CA0-4F8976998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0141CD-4E70-4E52-92A7-EF2860CCE1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05D81-A321-41C8-A2AE-547D6E7C0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78FB3-7949-4D17-A7AC-86D193B8A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7AFD-D2BA-44EA-8A07-261338A99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EC233-1924-4C5F-8013-8D6C02513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1F66E-DE3A-405B-92BF-1A4FFFCCD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BA919-1D8C-4984-84AA-A0807F438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04291-FBA5-424D-A248-39DF0D886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D2BAE-BEEB-4848-927A-110476FFD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6834D-B663-4220-B6FB-A6839642C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80EA2-954B-4A8F-8E3B-1B0734FF7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E852C2-2B22-4C8C-9B13-A2F257BC9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14DD0-AC40-4F4B-9D59-9C0CA02DA7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F05E-313A-48F5-95B8-FF794FD47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BD5BD-840E-4833-B836-67034E37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5A12A-8F3A-4E6C-88AE-47EF6ADF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540B-8B5B-4386-AF66-D368ADC08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1934-5464-443D-BE7C-EE7E82905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46268"/>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485E-E34A-434D-86E7-74927927CC31}" type="slidenum">
              <a:rPr b="0" lang="ru-RU" sz="1200" spc="-1" strike="noStrike">
                <a:solidFill>
                  <a:srgbClr val="646268"/>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b9c7"/>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CF2B-0D49-4C7E-9620-9B4E59F30D17}" type="slidenum">
              <a:rPr b="0" lang="ru-RU" sz="1200" spc="-1" strike="noStrike">
                <a:solidFill>
                  <a:srgbClr val="c0b9c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b9c7"/>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7C74-7201-48C6-8B93-2DC8CBF3D6E3}" type="slidenum">
              <a:rPr b="0" lang="ru-RU" sz="1200" spc="-1" strike="noStrike">
                <a:solidFill>
                  <a:srgbClr val="c0b9c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46268"/>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BB48-2715-4E34-8A99-DADD42BC4A7B}" type="slidenum">
              <a:rPr b="0" lang="ru-RU" sz="1200" spc="-1" strike="noStrike">
                <a:solidFill>
                  <a:srgbClr val="646268"/>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643040" y="3000240"/>
            <a:ext cx="5857920" cy="642960"/>
          </a:xfrm>
          <a:prstGeom prst="rect">
            <a:avLst/>
          </a:prstGeom>
          <a:noFill/>
          <a:ln w="0">
            <a:noFill/>
          </a:ln>
        </p:spPr>
        <p:txBody>
          <a:bodyPr lIns="0" rIns="1836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Тема 7 </a:t>
            </a:r>
            <a:endParaRPr b="0" lang="en-US" sz="3200" spc="-1" strike="noStrike">
              <a:solidFill>
                <a:srgbClr val="ffffff"/>
              </a:solidFill>
              <a:latin typeface="Constanti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РАЗМЕРЫ ПРОИЗВОДСТВА </a:t>
            </a:r>
            <a:endParaRPr b="0" lang="en-US" sz="3200" spc="-1" strike="noStrike">
              <a:solidFill>
                <a:srgbClr val="ffffff"/>
              </a:solidFill>
              <a:latin typeface="Constanti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7" dur="500"/>
                                        <p:tgtEl>
                                          <p:spTgt spid="20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02">
                                            <p:txEl>
                                              <p:pRg st="1" end="1"/>
                                            </p:txEl>
                                          </p:spTgt>
                                        </p:tgtEl>
                                        <p:attrNameLst>
                                          <p:attrName>style.visibility</p:attrName>
                                        </p:attrNameLst>
                                      </p:cBhvr>
                                      <p:to>
                                        <p:strVal val="visible"/>
                                      </p:to>
                                    </p:set>
                                    <p:animEffect filter="checkerboard(across)" transition="in">
                                      <p:cBhvr additive="repl">
                                        <p:cTn id="10"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Что представляет из себя сельское хозяйство</a:t>
            </a:r>
            <a:r>
              <a:rPr b="1" lang="ru-RU" sz="3200" spc="-1" strike="noStrike">
                <a:solidFill>
                  <a:srgbClr val="69676d"/>
                </a:solidFill>
                <a:latin typeface="Calibri"/>
              </a:rPr>
              <a:t>?</a:t>
            </a:r>
            <a:endParaRPr b="0" lang="en-US" sz="3200" spc="-1" strike="noStrike">
              <a:solidFill>
                <a:srgbClr val="69676d"/>
              </a:solidFill>
              <a:latin typeface="Calibri"/>
            </a:endParaRPr>
          </a:p>
        </p:txBody>
      </p:sp>
      <p:sp>
        <p:nvSpPr>
          <p:cNvPr id="218" name=""/>
          <p:cNvSpPr txBox="1"/>
          <p:nvPr/>
        </p:nvSpPr>
        <p:spPr>
          <a:xfrm>
            <a:off x="457200" y="1571760"/>
            <a:ext cx="8229600" cy="49291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своей основе — это использование человеком солнечной энергии, падающей на поверхность земли. Человек не может солнечные лучи, падающие на сто десятин, собрать на одну. Он может только улавливать их зеленым хлорофиллом своих посевов на всем пространстве их падения. </a:t>
            </a:r>
            <a:endParaRPr b="0" lang="en-US" sz="24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самой своей сущности сельское хозяйство неотъемлемо связано с пространством, и, чем крупнее сельскохозяйственное предприятие, тем большую площадь оно должно занимать. Никакой концентрации в пространстве здесь нельзя провести».</a:t>
            </a:r>
            <a:endParaRPr b="0" lang="en-US" sz="24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28760" y="928800"/>
            <a:ext cx="8286480" cy="52862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В. Чаянов считал, что сама природа аграрного производства ставит пределы его укрупнению, благодаря чему количественное выражение преимуществ </a:t>
            </a:r>
            <a:r>
              <a:rPr b="1" lang="ru-RU" sz="1800" spc="-1" strike="noStrike">
                <a:solidFill>
                  <a:srgbClr val="000000"/>
                </a:solidFill>
                <a:latin typeface="Times New Roman"/>
                <a:ea typeface="Times New Roman"/>
              </a:rPr>
              <a:t>крупного хозяйства </a:t>
            </a:r>
            <a:r>
              <a:rPr b="0" lang="ru-RU" sz="1800" spc="-1" strike="noStrike">
                <a:solidFill>
                  <a:srgbClr val="000000"/>
                </a:solidFill>
                <a:latin typeface="Times New Roman"/>
                <a:ea typeface="Times New Roman"/>
              </a:rPr>
              <a:t>перед </a:t>
            </a:r>
            <a:r>
              <a:rPr b="1" lang="ru-RU" sz="1800" spc="-1" strike="noStrike">
                <a:solidFill>
                  <a:srgbClr val="000000"/>
                </a:solidFill>
                <a:latin typeface="Times New Roman"/>
                <a:ea typeface="Times New Roman"/>
              </a:rPr>
              <a:t>мелким</a:t>
            </a:r>
            <a:r>
              <a:rPr b="0" lang="ru-RU" sz="1800" spc="-1" strike="noStrike">
                <a:solidFill>
                  <a:srgbClr val="000000"/>
                </a:solidFill>
                <a:latin typeface="Times New Roman"/>
                <a:ea typeface="Times New Roman"/>
              </a:rPr>
              <a:t> в земледелии никогда не может быть особенно большим. «Таким образом, несмотря на то, что и в земледелии крупная форма производства имела несомненное преимущество над мелкой, мы должны признать, что количественное выражение этих преимуществ было далеко не столь значительно, как в обрабатывающей промышленности, и не могло погасить ни недостатков крупного земледелия, ни тех преимуществ, которые с народнохозяйственной точки зрения семейная форма производства имеет над формой капиталистической.</a:t>
            </a:r>
            <a:endParaRPr b="0" lang="en-US" sz="18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воря о мелком и крупном хозяйстве, мы противопоставляем тем самым количество против количества же. На самом же деле мы имеем перед собою качественное противопоставление. Мы должны противопоставлять не мелкое и крупное производства, а хозяйства семейное и трудовое, которое ведется силами самого хозяина и его семьи, с одной стороны, а с другой стороны — хозяйство капиталистическое, построенное на наемном труде». «Основные, невосполнимые потери за счет укрупнения аграрного производства,— подчеркивал А. В. Чаянов,— заключаются в усложнении управления, и самое главное — в усилении отрыва работника От земли. </a:t>
            </a:r>
            <a:r>
              <a:rPr b="1" lang="ru-RU" sz="1600" spc="-1" strike="noStrike">
                <a:solidFill>
                  <a:srgbClr val="000000"/>
                </a:solidFill>
                <a:latin typeface="Times New Roman"/>
                <a:ea typeface="Times New Roman"/>
              </a:rPr>
              <a:t>Чем ближе работник к полю, к земле,— считал он,— тем лучше, тем эффективнее его труд, тем выше его отдача».</a:t>
            </a:r>
            <a:endParaRPr b="0" lang="en-US" sz="16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44928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99680" y="1213920"/>
            <a:ext cx="8358120" cy="4389480"/>
          </a:xfrm>
          <a:prstGeom prst="rect">
            <a:avLst/>
          </a:prstGeom>
          <a:noFill/>
          <a:ln w="0">
            <a:noFill/>
          </a:ln>
        </p:spPr>
        <p:txBody>
          <a:bodyPr anchor="t">
            <a:normAutofit fontScale="9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яду с особенностями аграрного производства, влияющими на уровень его концентрации, </a:t>
            </a:r>
            <a:r>
              <a:rPr b="1" lang="ru-RU" sz="2000" spc="-1" strike="noStrike">
                <a:solidFill>
                  <a:srgbClr val="000000"/>
                </a:solidFill>
                <a:latin typeface="Constantia"/>
              </a:rPr>
              <a:t>серьезное значение А. В. Чаянов придавал также биологическому фактору</a:t>
            </a:r>
            <a:r>
              <a:rPr b="0" lang="ru-RU" sz="2000" spc="-1" strike="noStrike">
                <a:solidFill>
                  <a:srgbClr val="000000"/>
                </a:solidFill>
                <a:latin typeface="Constantia"/>
              </a:rPr>
              <a:t>. Разделяя методологически все производство продовольствия на четыре основные группы элементов, он считал, что в наименьшей степени поддаются концентрации контроль и создание благоприятных условий для биологических процессов — роста растений, лактации коров, нагула скота. </a:t>
            </a:r>
            <a:r>
              <a:rPr b="1" lang="ru-RU" sz="2000" spc="-1" strike="noStrike">
                <a:solidFill>
                  <a:srgbClr val="000000"/>
                </a:solidFill>
                <a:latin typeface="Constantia"/>
              </a:rPr>
              <a:t>Эти операции значительно лучше удаются в мелком хозяйстве. </a:t>
            </a:r>
            <a:r>
              <a:rPr b="0" lang="ru-RU" sz="2000" spc="-1" strike="noStrike">
                <a:solidFill>
                  <a:srgbClr val="000000"/>
                </a:solidFill>
                <a:latin typeface="Constantia"/>
              </a:rPr>
              <a:t>Несколько большей концентрации производства требуют механические процессы, связанные с земледелием — обработка почвы, посев, уборка. А такие процессы, как первичная переработка сельскохозяйственного сырья, торговля, по его мнению, значительно лучше могут быть организованы в наиболее </a:t>
            </a:r>
            <a:r>
              <a:rPr b="1" lang="ru-RU" sz="2000" spc="-1" strike="noStrike">
                <a:solidFill>
                  <a:srgbClr val="000000"/>
                </a:solidFill>
                <a:latin typeface="Constantia"/>
              </a:rPr>
              <a:t>крупных формах.</a:t>
            </a:r>
            <a:endParaRPr b="0" lang="en-US" sz="2000" spc="-1" strike="noStrike">
              <a:solidFill>
                <a:srgbClr val="000000"/>
              </a:solidFill>
              <a:latin typeface="Constantia"/>
            </a:endParaRPr>
          </a:p>
          <a:p>
            <a:pPr indent="422280" algn="just">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28400" y="1356840"/>
            <a:ext cx="8358120" cy="40719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С целью подтверждения указанных выводов А. 8. Чаянов разделял все процессы, «слагающие собою сельскохозяйственное предприятие», на три раздела:</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1. Те, по преимуществу биологические, процессы, в которых мелкое производство дает лучшие результаты, чем крупное.</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2. Те процессы, которые одинаково успешно организуются как в крупных, так и в мелких формах.</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3. Те процессы, по преимуществу торгового и механического характера, которые особенно удаются при укрупнении хозяйства.</a:t>
            </a:r>
            <a:endParaRPr b="0" lang="en-US" sz="2000" spc="-1" strike="noStrike">
              <a:solidFill>
                <a:srgbClr val="000000"/>
              </a:solidFill>
              <a:latin typeface="Constanti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28760" y="1213920"/>
            <a:ext cx="8229600" cy="43894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поставляя между собой </a:t>
            </a:r>
            <a:r>
              <a:rPr b="1" lang="ru-RU" sz="2400" spc="-1" strike="noStrike">
                <a:solidFill>
                  <a:srgbClr val="000000"/>
                </a:solidFill>
                <a:latin typeface="Times New Roman"/>
                <a:ea typeface="Times New Roman"/>
              </a:rPr>
              <a:t>четыре возможные вида</a:t>
            </a:r>
            <a:r>
              <a:rPr b="0" lang="ru-RU" sz="2400" spc="-1" strike="noStrike">
                <a:solidFill>
                  <a:srgbClr val="000000"/>
                </a:solidFill>
                <a:latin typeface="Times New Roman"/>
                <a:ea typeface="Times New Roman"/>
              </a:rPr>
              <a:t> организации земледельческого производства: </a:t>
            </a:r>
            <a:r>
              <a:rPr b="1" lang="ru-RU" sz="2400" spc="-1" strike="noStrike">
                <a:solidFill>
                  <a:srgbClr val="000000"/>
                </a:solidFill>
                <a:latin typeface="Times New Roman"/>
                <a:ea typeface="Times New Roman"/>
              </a:rPr>
              <a:t>распыленное крестьянское, крупное капиталистическое, крупное артельное и крестьянское кооперированное,</a:t>
            </a:r>
            <a:r>
              <a:rPr b="0" lang="ru-RU" sz="2400" spc="-1" strike="noStrike">
                <a:solidFill>
                  <a:srgbClr val="000000"/>
                </a:solidFill>
                <a:latin typeface="Times New Roman"/>
                <a:ea typeface="Times New Roman"/>
              </a:rPr>
              <a:t> мы легко увидим, что первое сильно организацией процессов первой группы, второе и третье — организацией процессов третьей группы, кооперированное же крестьянское хозяйство организационно превосходит все остальные, так как и по первой, и по третьей группам процессов оно имеет наиболее сильные организационные формы.</a:t>
            </a:r>
            <a:endParaRPr b="0" lang="en-US" sz="2400" spc="-1" strike="noStrike">
              <a:solidFill>
                <a:srgbClr val="000000"/>
              </a:solidFill>
              <a:latin typeface="Constantia"/>
            </a:endParaRPr>
          </a:p>
          <a:p>
            <a:pPr indent="45252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0040" y="1214280"/>
            <a:ext cx="8229600" cy="4500720"/>
          </a:xfrm>
          <a:prstGeom prst="rect">
            <a:avLst/>
          </a:prstGeom>
          <a:noFill/>
          <a:ln w="0">
            <a:noFill/>
          </a:ln>
        </p:spPr>
        <p:txBody>
          <a:bodyPr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к видно, суть позиции А.В.Чаянова состоит в том, что в крестьянском хозяйстве кооперативная концентрация производства оказывается тем экономически выгодной, чем дальше отстоит подлежащая кооперированию сфера аграрной деятельности от непосредственной работы крестьянина с биологическими организмами. Исходя из этого, он предложил дифференцированный метод определения возможностей концентрации в аграрном производстве: минимальная — на биологических процессах; последовательное расширение границ и увеличение степени кооперативной концентрации в прилегающих сферах — содержание машин и организация техобслуживания, племенная селекция, мелиорация, переработка и сбыт продукции, строительство и т.п. С этой точки зрения, наименее рациональной оказывается лишь предельная, тотальная форма агропроизводственной концентрации — сельскохозяйственная артель, в рамках которой принудительной регламентации могут подвергаться и принципиально неотчуждаемая творческая часть многообразной деятельности земледельца, его забота о живом предмете труда.</a:t>
            </a:r>
            <a:endParaRPr b="0" lang="en-US" sz="1800" spc="-1" strike="noStrike">
              <a:solidFill>
                <a:srgbClr val="000000"/>
              </a:solidFill>
              <a:latin typeface="Constantia"/>
            </a:endParaRPr>
          </a:p>
          <a:p>
            <a:pPr indent="41760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41760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57120" y="1357200"/>
            <a:ext cx="8329680" cy="4532400"/>
          </a:xfrm>
          <a:prstGeom prst="rect">
            <a:avLst/>
          </a:prstGeom>
          <a:noFill/>
          <a:ln w="0">
            <a:noFill/>
          </a:ln>
        </p:spPr>
        <p:txBody>
          <a:bodyPr anchor="t">
            <a:normAutofit fontScale="9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торонником мелкого трудового крестьянского хозяйства был Н. Д. Кондратьев. Подтверждая наибольшую экономическую оправданность мелкого крестьянского хозяйства, Н. Д. Кондратьев тем не менее отмечал, </a:t>
            </a:r>
            <a:r>
              <a:rPr b="1" lang="ru-RU" sz="1600" spc="-1" strike="noStrike">
                <a:solidFill>
                  <a:srgbClr val="000000"/>
                </a:solidFill>
                <a:latin typeface="Constantia"/>
              </a:rPr>
              <a:t>что крупное производство </a:t>
            </a:r>
            <a:r>
              <a:rPr b="0" lang="ru-RU" sz="1600" spc="-1" strike="noStrike">
                <a:solidFill>
                  <a:srgbClr val="000000"/>
                </a:solidFill>
                <a:latin typeface="Constantia"/>
              </a:rPr>
              <a:t>по сравнению с мелким имеет ряд положительных свойств: </a:t>
            </a:r>
            <a:endParaRPr b="0" lang="en-US" sz="1600" spc="-1" strike="noStrike">
              <a:solidFill>
                <a:srgbClr val="000000"/>
              </a:solidFill>
              <a:latin typeface="Constantia"/>
            </a:endParaRPr>
          </a:p>
          <a:p>
            <a:pPr indent="426600" algn="just">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но более производительно хотя бы потому, что основано на разделении труда;     </a:t>
            </a:r>
            <a:endParaRPr b="0" lang="en-US" sz="1600" spc="-1" strike="noStrike">
              <a:solidFill>
                <a:srgbClr val="000000"/>
              </a:solidFill>
              <a:latin typeface="Constantia"/>
            </a:endParaRPr>
          </a:p>
          <a:p>
            <a:pPr indent="426600" algn="just">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характеризуется меньшими удельными затратами инвентаря и тяговой силы; </a:t>
            </a:r>
            <a:endParaRPr b="0" lang="en-US" sz="1600" spc="-1" strike="noStrike">
              <a:solidFill>
                <a:srgbClr val="000000"/>
              </a:solidFill>
              <a:latin typeface="Constantia"/>
            </a:endParaRPr>
          </a:p>
          <a:p>
            <a:pPr indent="426600" algn="just">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оздает возможность использовать новую технику и технологию.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елкие же трудовые хозяйства, взятые сами по себе, не нацелены — прежде всего  в силу своего натурального по преимуществу характера — на экономическую перспективу, на развитие «во имя интересов государства», народного хозяйства в целом, в обеспечении интересов которого Н. Д. Кондратьев видел одну из главных целей хозяйственной деятельности.</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реодоление экономической ограниченности крестьянского хозяйства Н. Д. Кондратьев связывал с кооперацией, которая, на его взгляд, может соединить преимущества мелкого и крупного хозяйств. В перспективе трудовое крестьянское хозяйство выступало лишь как переходная ступень к кооперативному, крупному.</a:t>
            </a:r>
            <a:endParaRPr b="0" lang="en-US" sz="1600" spc="-1" strike="noStrike">
              <a:solidFill>
                <a:srgbClr val="000000"/>
              </a:solidFill>
              <a:latin typeface="Constantia"/>
            </a:endParaRPr>
          </a:p>
          <a:p>
            <a:pPr indent="426600" algn="just">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28760" y="1285560"/>
            <a:ext cx="8229600" cy="43894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деи А. В. Чаянова и его сторонников прошли проверку широкой практикой. Достаточно сослаться на опыт сельского хозяйства США и стран Западной Европы. В США крупные агрофирмы строят, как правило, лишь предприятия по переработке, сбыту и техническому обслуживанию; сам же процесс непосредственного производства аграрной продукции оказалось выгоднее предоставить относительно мелким семейным фермам, в том числе и не имеющим права собственности на землю, но работающим без указки на условиях аренды и подрядного договора.</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этой феноменальной устойчивости традиционных форм крестьянско-семейного производства, доказывающих свою незаменимость, видимо, есть закономерность, отражающая специфику, проявляющую себя независимо от господствующего в то или иное время обществе социально-экономического строя.</a:t>
            </a:r>
            <a:endParaRPr b="0" lang="en-US" sz="2000" spc="-1" strike="noStrike">
              <a:solidFill>
                <a:srgbClr val="000000"/>
              </a:solidFill>
              <a:latin typeface="Constantia"/>
            </a:endParaRPr>
          </a:p>
          <a:p>
            <a:pPr indent="44928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28760" y="1356840"/>
            <a:ext cx="8229600" cy="43894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сновное ядро аграрной структуры стран Западной Европы также составляет семейная ферма, ибо она обладает большим запасом прочности и способностью выжить в периоды экономических трудностей, достаточной гибкостью, чтобы приспособиться к усиливающемуся давлению системы агробизнеса</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По данным Старкова А., в США семейные фермерские хозяйства подразделяются на 5 групп:</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хозяйства сельских жителей (с общим объемом производства реализуемой продукции до 10 тыс. долл. в г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мелкие семейные фермы —   10— 40 тыс. долл. в г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семейные фермы —  40— 250 тыс. долл. в г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крупные семейные фермы —   250— 500 тыс. долл. в г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крупнейшие семейные фермы —  500 тыс. долл. и более в год.</a:t>
            </a:r>
            <a:endParaRPr b="0" lang="en-US" sz="1800" spc="-1" strike="noStrike">
              <a:solidFill>
                <a:srgbClr val="000000"/>
              </a:solidFill>
              <a:latin typeface="Constantia"/>
            </a:endParaRPr>
          </a:p>
          <a:p>
            <a:pPr indent="449280">
              <a:spcBef>
                <a:spcPts val="45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85480" y="856800"/>
            <a:ext cx="8429400" cy="43894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Фермерские хозяйства с объемом сбыта продукции до 40 тыс. долл. в год (первая и вторая группы) считаются </a:t>
            </a:r>
            <a:r>
              <a:rPr b="1" lang="ru-RU" sz="1600" spc="-1" strike="noStrike">
                <a:solidFill>
                  <a:srgbClr val="002060"/>
                </a:solidFill>
                <a:latin typeface="Times New Roman"/>
                <a:ea typeface="Times New Roman"/>
              </a:rPr>
              <a:t>«некоммерческими»</a:t>
            </a:r>
            <a:r>
              <a:rPr b="0" lang="ru-RU" sz="1600" spc="-1" strike="noStrike">
                <a:solidFill>
                  <a:srgbClr val="002060"/>
                </a:solidFill>
                <a:latin typeface="Times New Roman"/>
                <a:ea typeface="Times New Roman"/>
              </a:rPr>
              <a:t>, поскольку не могут обеспечить полной занятости фермера и его прожиточного минимума. Их число составляет 72 % всех аграрных предприятий США, но дают они всего 10 % товарной продукции отрасли. Владельцы таких ферм либо работают в течение всего рабочего времени вне аграрного производства, либо являются пенсионерами, начинающими фермерами.</a:t>
            </a:r>
            <a:endParaRPr b="0" lang="en-US" sz="1600" spc="-1" strike="noStrike">
              <a:solidFill>
                <a:srgbClr val="000000"/>
              </a:solidFill>
              <a:latin typeface="Constantia"/>
            </a:endParaRPr>
          </a:p>
          <a:p>
            <a:pPr indent="44928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рупнейшие фермы составляют 1 % всех ферм, но производят 1/3 всей аграрной продукции. Из них 400 крупнейших аграрных предприятий производят 1/6 всей товарной продукции аграрного производства в стране. Крупная ферма считается семейной лишь в том' плане, что большая ее часть — собственность владельца. Все они основаны на наемном труде. Почти 1/2 всех затрат на наемный труд в аграрном производстве США приходится на долю этих хозяйств,</a:t>
            </a:r>
            <a:endParaRPr b="0" lang="en-US" sz="1600" spc="-1" strike="noStrike">
              <a:solidFill>
                <a:srgbClr val="000000"/>
              </a:solidFill>
              <a:latin typeface="Constantia"/>
            </a:endParaRPr>
          </a:p>
          <a:p>
            <a:pPr indent="44928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США около 1/3 фермеров постоянно применяют наемный труд, а остальные широко используют сезонных рабочих. На крупных семейных фермах, с суммой реализации более 500 тыс. долл., занято по 13 наемных рабочих, на фермах с реализацией от 250 до 500 тыс. долл.— в среднем по 2,4 человека, от 100 до • 250 тыс. долл,— по одному постоянному рабочему. Используется также большое число сезонных рабочих.</a:t>
            </a:r>
            <a:endParaRPr b="0" lang="en-US" sz="1600" spc="-1" strike="noStrike">
              <a:solidFill>
                <a:srgbClr val="000000"/>
              </a:solidFill>
              <a:latin typeface="Constantia"/>
            </a:endParaRPr>
          </a:p>
          <a:p>
            <a:pPr indent="449280">
              <a:lnSpc>
                <a:spcPct val="100000"/>
              </a:lnSpc>
              <a:spcBef>
                <a:spcPts val="4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7160" y="1428840"/>
            <a:ext cx="292896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9676d"/>
                </a:solidFill>
                <a:latin typeface="Calibri"/>
              </a:rPr>
              <a:t>План:</a:t>
            </a:r>
            <a:endParaRPr b="0" lang="en-US" sz="3600" spc="-1" strike="noStrike">
              <a:solidFill>
                <a:srgbClr val="69676d"/>
              </a:solidFill>
              <a:latin typeface="Calibri"/>
            </a:endParaRPr>
          </a:p>
        </p:txBody>
      </p:sp>
      <p:sp>
        <p:nvSpPr>
          <p:cNvPr id="204" name=""/>
          <p:cNvSpPr txBox="1"/>
          <p:nvPr/>
        </p:nvSpPr>
        <p:spPr>
          <a:xfrm>
            <a:off x="357120" y="2500200"/>
            <a:ext cx="8229600" cy="185112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1" lang="ru-RU" sz="2400" spc="-1" strike="noStrike">
                <a:solidFill>
                  <a:srgbClr val="000000"/>
                </a:solidFill>
                <a:latin typeface="Constantia"/>
              </a:rPr>
              <a:t>1. Понятие размеров производства, их роль в эффективности хозяйствования. А. В. Чаянов о размерах аграрного производства</a:t>
            </a:r>
            <a:endParaRPr b="0" lang="en-US" sz="2400" spc="-1" strike="noStrike">
              <a:solidFill>
                <a:srgbClr val="000000"/>
              </a:solidFill>
              <a:latin typeface="Constantia"/>
            </a:endParaRPr>
          </a:p>
          <a:p>
            <a:pPr marL="272880" indent="-272880">
              <a:spcBef>
                <a:spcPts val="60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57120" y="857160"/>
            <a:ext cx="8429760" cy="5214960"/>
          </a:xfrm>
          <a:prstGeom prst="rect">
            <a:avLst/>
          </a:prstGeom>
          <a:noFill/>
          <a:ln w="0">
            <a:noFill/>
          </a:ln>
        </p:spPr>
        <p:txBody>
          <a:bodyPr anchor="t">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всех приведенных факторов размеров аграрного производства наиболее важными являются </a:t>
            </a:r>
            <a:r>
              <a:rPr b="1" lang="ru-RU" sz="2000" spc="-1" strike="noStrike">
                <a:solidFill>
                  <a:srgbClr val="000000"/>
                </a:solidFill>
                <a:latin typeface="Times New Roman"/>
                <a:ea typeface="Times New Roman"/>
              </a:rPr>
              <a:t>издержки производства</a:t>
            </a:r>
            <a:r>
              <a:rPr b="0" lang="ru-RU" sz="2000" spc="-1" strike="noStrike">
                <a:solidFill>
                  <a:srgbClr val="000000"/>
                </a:solidFill>
                <a:latin typeface="Times New Roman"/>
                <a:ea typeface="Times New Roman"/>
              </a:rPr>
              <a:t>, а именно зависимость между издержками и размерами. А. В. Чаянов считал, что при определении размеров крестьянского хозяйства надо находить оптимум, который заложен там, где «при ...прочих равных условиях себестоимость получаемых продуктов будет наименьшая». </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крестьянских хозяйствах все элементы издержек производства А. В. Чаянов разбивал на три группы:</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 уменьшающиеся при укрупнении хозяйства (стоимость машиноиспользования, постройки, административные расходы);</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величивающиеся при укрупнении хозяйства (транспортные издержки, потери от снижения надзора);</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е зависимые от размеров хозяйства (стоимость семян, удобрений, погрузочно-разгрузочные работы и др.).</a:t>
            </a:r>
            <a:endParaRPr b="0" lang="en-US" sz="20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йти оптимальный (рациональный) размер хозяйства — значит отыскать точку минимальных издержек производства на единицу продукции при суммировании всех этих трех групп элементов. </a:t>
            </a:r>
            <a:endParaRPr b="0" lang="en-US" sz="2000" spc="-1" strike="noStrike">
              <a:solidFill>
                <a:srgbClr val="000000"/>
              </a:solidFill>
              <a:latin typeface="Constantia"/>
            </a:endParaRPr>
          </a:p>
          <a:p>
            <a:pPr indent="44316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85520" y="713880"/>
            <a:ext cx="8072280" cy="78588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ru-RU" sz="2000" spc="-1" strike="noStrike">
                <a:solidFill>
                  <a:srgbClr val="000000"/>
                </a:solidFill>
                <a:latin typeface="Times New Roman"/>
                <a:ea typeface="Times New Roman"/>
              </a:rPr>
              <a:t>1. Понятие размеров производства, их роль в эффективности хозяйствования. </a:t>
            </a:r>
            <a:endParaRPr b="0" lang="en-US" sz="2000" spc="-1" strike="noStrike">
              <a:solidFill>
                <a:srgbClr val="69676d"/>
              </a:solidFill>
              <a:latin typeface="Calibri"/>
            </a:endParaRPr>
          </a:p>
        </p:txBody>
      </p:sp>
      <p:sp>
        <p:nvSpPr>
          <p:cNvPr id="206" name=""/>
          <p:cNvSpPr txBox="1"/>
          <p:nvPr/>
        </p:nvSpPr>
        <p:spPr>
          <a:xfrm>
            <a:off x="428760" y="1714680"/>
            <a:ext cx="8229600" cy="3714480"/>
          </a:xfrm>
          <a:prstGeom prst="rect">
            <a:avLst/>
          </a:prstGeom>
          <a:noFill/>
          <a:ln w="0">
            <a:noFill/>
          </a:ln>
        </p:spPr>
        <p:txBody>
          <a:bodyPr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onstantia"/>
              </a:rPr>
              <a:t>Наряду с другими факторами большое влияние на прибыльность аграрного производства оказывают его размеры. </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onstantia"/>
              </a:rPr>
              <a:t>Размеры любого производства </a:t>
            </a:r>
            <a:r>
              <a:rPr b="0" lang="ru-RU" sz="2000" spc="-1" strike="noStrike">
                <a:solidFill>
                  <a:srgbClr val="002060"/>
                </a:solidFill>
                <a:latin typeface="Constantia"/>
              </a:rPr>
              <a:t>представляют собой количественные объемы ресурсов и продукции, производимой в одном месте. </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onstantia"/>
              </a:rPr>
              <a:t>Размеры производства, будучи объективной закономерностью его развития, являются отражением научно-технического прогресса. </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onstantia"/>
              </a:rPr>
              <a:t>В свою очередь, рациональные размеры производства выступают важнейшей предпосылкой и условием дальнейшего развития научно-технического прогресса в нем и повышения его экономической эффективности.</a:t>
            </a:r>
            <a:endParaRPr b="0" lang="en-US" sz="2000" spc="-1" strike="noStrike">
              <a:solidFill>
                <a:srgbClr val="000000"/>
              </a:solidFill>
              <a:latin typeface="Constanti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99680" y="1357200"/>
            <a:ext cx="8286840" cy="3929040"/>
          </a:xfrm>
          <a:prstGeom prst="rect">
            <a:avLst/>
          </a:prstGeom>
          <a:noFill/>
          <a:ln w="0">
            <a:noFill/>
          </a:ln>
        </p:spPr>
        <p:txBody>
          <a:bodyPr anchor="t">
            <a:normAutofit fontScale="89000"/>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 размерах производства проявляется, прежде всего, действие экономического закона превосходства крупного производства перед мелким производством. </a:t>
            </a:r>
            <a:endParaRPr b="0" lang="en-US" sz="2000" spc="-1" strike="noStrike">
              <a:solidFill>
                <a:srgbClr val="000000"/>
              </a:solidFill>
              <a:latin typeface="Constanti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Чем крупнее производство, тем меньше требуется средств и предметов труда на гектар земельной площади. В крупном производстве улучшаются условия использования трудовых ресурсов, а также сбыта продукции и материально-технического обеспечения. </a:t>
            </a:r>
            <a:endParaRPr b="0" lang="en-US" sz="2000" spc="-1" strike="noStrike">
              <a:solidFill>
                <a:srgbClr val="000000"/>
              </a:solidFill>
              <a:latin typeface="Constanti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 ростом размеров производства пропорционально уменьшаются постоянные расходы в расчете на единицу площади и производимой продукции, повышаются уровень товарности, возможности снижения издержек производства продукции и роста ее доходности. </a:t>
            </a:r>
            <a:endParaRPr b="0" lang="en-US" sz="2000" spc="-1" strike="noStrike">
              <a:solidFill>
                <a:srgbClr val="000000"/>
              </a:solidFill>
              <a:latin typeface="Constanti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214280"/>
            <a:ext cx="8229600" cy="4500720"/>
          </a:xfrm>
          <a:prstGeom prst="rect">
            <a:avLst/>
          </a:prstGeom>
          <a:solidFill>
            <a:srgbClr val="ffffff"/>
          </a:solidFill>
          <a:ln w="0">
            <a:noFill/>
          </a:ln>
        </p:spPr>
        <p:txBody>
          <a:bodyPr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оцесс рационализации размеров аграрного производства непосредственно в самом хозяйстве осуществляется неуклонно. Каждому уровню развития производительных сил аграрного производства соответствуют определенные его размеры. </a:t>
            </a:r>
            <a:endParaRPr b="0" lang="en-US" sz="2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Рациональным размером аграрного производства </a:t>
            </a:r>
            <a:r>
              <a:rPr b="0" lang="ru-RU" sz="2200" spc="-1" strike="noStrike">
                <a:solidFill>
                  <a:srgbClr val="000000"/>
                </a:solidFill>
                <a:latin typeface="Constantia"/>
              </a:rPr>
              <a:t>является такое, которое при определенной специализации и интенсивности, достигнутом уровне механизации производства и наличных трудовых ресурсах обеспечивает наиболее эффективное сочетание и использование всех факторов производства и получение максимума продукции с единицы земельной площади при наименьших затратах труда и средств.</a:t>
            </a:r>
            <a:endParaRPr b="0" lang="en-US" sz="2200" spc="-1" strike="noStrike">
              <a:solidFill>
                <a:srgbClr val="000000"/>
              </a:solidFill>
              <a:latin typeface="Constantia"/>
            </a:endParaRPr>
          </a:p>
          <a:p>
            <a:pPr indent="440280">
              <a:lnSpc>
                <a:spcPct val="80000"/>
              </a:lnSpc>
              <a:spcBef>
                <a:spcPts val="55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13880" y="785520"/>
            <a:ext cx="7929720" cy="633240"/>
          </a:xfrm>
          <a:prstGeom prst="rect">
            <a:avLst/>
          </a:prstGeom>
          <a:noFill/>
          <a:ln w="0">
            <a:noFill/>
          </a:ln>
        </p:spPr>
        <p:txBody>
          <a:bodyPr lIns="0" rIns="0" bIns="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 разработке рационального размера аграрного производства весьма важным является выбор его показателей.</a:t>
            </a:r>
            <a:endParaRPr b="0" lang="en-US" sz="2000" spc="-1" strike="noStrike">
              <a:solidFill>
                <a:srgbClr val="69676d"/>
              </a:solidFill>
              <a:latin typeface="Calibri"/>
            </a:endParaRPr>
          </a:p>
        </p:txBody>
      </p:sp>
      <p:sp>
        <p:nvSpPr>
          <p:cNvPr id="210" name=""/>
          <p:cNvSpPr txBox="1"/>
          <p:nvPr/>
        </p:nvSpPr>
        <p:spPr>
          <a:xfrm>
            <a:off x="571680" y="1571400"/>
            <a:ext cx="8229600" cy="43894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ным показателем, характеризующим действительный размер производства</a:t>
            </a:r>
            <a:r>
              <a:rPr b="1" lang="ru-RU" sz="1800" spc="-1" strike="noStrike">
                <a:solidFill>
                  <a:srgbClr val="000000"/>
                </a:solidFill>
                <a:latin typeface="Times New Roman"/>
                <a:ea typeface="Times New Roman"/>
              </a:rPr>
              <a:t>, является объем </a:t>
            </a:r>
            <a:r>
              <a:rPr b="0" lang="ru-RU" sz="1800" spc="-1" strike="noStrike">
                <a:solidFill>
                  <a:srgbClr val="000000"/>
                </a:solidFill>
                <a:latin typeface="Times New Roman"/>
                <a:ea typeface="Times New Roman"/>
              </a:rPr>
              <a:t>и </a:t>
            </a:r>
            <a:r>
              <a:rPr b="1" lang="ru-RU" sz="1800" spc="-1" strike="noStrike">
                <a:solidFill>
                  <a:srgbClr val="000000"/>
                </a:solidFill>
                <a:latin typeface="Times New Roman"/>
                <a:ea typeface="Times New Roman"/>
              </a:rPr>
              <a:t>стоимость валовой продукции</a:t>
            </a:r>
            <a:r>
              <a:rPr b="0" lang="ru-RU"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лкое производство, оставаясь мелким по площади земли, превращается в крупное по размерам производства, по развитию скотоводства, по размерам удобрений, по развитию применения машин. О размерах аграрного производства количество земли свидетельствует лишь косвенно, и это свидетельство тем менее достоверно, чем шире и быстрее идет интенсификация земледелия. </a:t>
            </a:r>
            <a:endParaRPr b="0" lang="en-US" sz="18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установлении размеров производства, в котором земля выступает в качестве главного фактора, показатель валовой продукции недостаточен, так как объем продукции в аграрном производстве — величина весьма, изменчивая и зависит, в первую очередь, от размеров земельной площади и эффективности ее использования.</a:t>
            </a:r>
            <a:endParaRPr b="0" lang="en-US" sz="18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площадью и качеством земельных угодий, и прежде всего пашни, связаны количество производимой продукции, потребность в рабочей силе, материальных ресурсах, капитальных вложениях на производственные цели и т.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indent="272880" algn="just">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272880" algn="just">
              <a:spcBef>
                <a:spcPts val="45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400" y="1142640"/>
            <a:ext cx="8358120" cy="4357800"/>
          </a:xfrm>
          <a:prstGeom prst="rect">
            <a:avLst/>
          </a:prstGeom>
          <a:noFill/>
          <a:ln w="0">
            <a:noFill/>
          </a:ln>
        </p:spPr>
        <p:txBody>
          <a:bodyPr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 расчетах размеров аграрного производства ставится задача добиться максимально возможного объема продукции при наиболее эффективном использовании всех решающих и устойчивых факторов производства. Из числа этих факторов важнейшее значение имеют размеры земельной площади, сельскохозяйственных угодий, пашни, а в животноводческих хозяйствах и поголовья скота.</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ыгода, которой пользовались крупные аграрные предприятия — совхозы и колхозы — вследствие того, что имели возможность использовать дорогостоящие машины большей производительности, с избытком покрывается в крестьянском хозяйстве тем, что крестьянин относится несравненно бережнее к своим машинам, и поэтому они изнашиваются у него медленнее, чем в крупном общественном производстве, использующем наемный труд.</a:t>
            </a:r>
            <a:endParaRPr b="0" lang="en-US" sz="2000" spc="-1" strike="noStrike">
              <a:solidFill>
                <a:srgbClr val="000000"/>
              </a:solidFill>
              <a:latin typeface="Constantia"/>
            </a:endParaRPr>
          </a:p>
          <a:p>
            <a:pPr indent="417600" algn="just">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7120" y="856800"/>
            <a:ext cx="8429760" cy="490680"/>
          </a:xfrm>
          <a:prstGeom prst="rect">
            <a:avLst/>
          </a:prstGeom>
          <a:solidFill>
            <a:srgbClr val="ffffff"/>
          </a:solidFill>
          <a:ln w="0">
            <a:noFill/>
          </a:ln>
        </p:spPr>
        <p:txBody>
          <a:bodyPr lIns="0" rIns="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9676d"/>
                </a:solidFill>
                <a:latin typeface="Times New Roman"/>
                <a:ea typeface="Times New Roman"/>
              </a:rPr>
              <a:t>А. В. Чаянов о размерах аграрного производства</a:t>
            </a:r>
            <a:endParaRPr b="0" lang="en-US" sz="3200" spc="-1" strike="noStrike">
              <a:solidFill>
                <a:srgbClr val="69676d"/>
              </a:solidFill>
              <a:latin typeface="Calibri"/>
            </a:endParaRPr>
          </a:p>
        </p:txBody>
      </p:sp>
      <p:pic>
        <p:nvPicPr>
          <p:cNvPr id="213" name="Picture 2" descr=""/>
          <p:cNvPicPr/>
          <p:nvPr/>
        </p:nvPicPr>
        <p:blipFill>
          <a:blip r:embed="rId1"/>
          <a:stretch/>
        </p:blipFill>
        <p:spPr>
          <a:xfrm>
            <a:off x="214200" y="1643040"/>
            <a:ext cx="1857600" cy="2857680"/>
          </a:xfrm>
          <a:prstGeom prst="rect">
            <a:avLst/>
          </a:prstGeom>
          <a:ln w="0">
            <a:noFill/>
          </a:ln>
        </p:spPr>
      </p:pic>
      <p:sp>
        <p:nvSpPr>
          <p:cNvPr id="214" name="Прямоугольник 4"/>
          <p:cNvSpPr/>
          <p:nvPr/>
        </p:nvSpPr>
        <p:spPr>
          <a:xfrm>
            <a:off x="357120" y="4572000"/>
            <a:ext cx="171468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й экономист Александр Васильевич Чаянов (1888—1937) .</a:t>
            </a:r>
            <a:endParaRPr b="0" lang="en-US" sz="1800" spc="-1" strike="noStrike">
              <a:solidFill>
                <a:srgbClr val="000000"/>
              </a:solidFill>
              <a:latin typeface="Arial"/>
            </a:endParaRPr>
          </a:p>
        </p:txBody>
      </p:sp>
      <p:sp>
        <p:nvSpPr>
          <p:cNvPr id="215" name="Rectangle 4"/>
          <p:cNvSpPr/>
          <p:nvPr/>
        </p:nvSpPr>
        <p:spPr>
          <a:xfrm>
            <a:off x="2286000" y="1946520"/>
            <a:ext cx="6500880" cy="387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 В. Чаянов, как и другие экономисты-аграрники 20-х годов, большое внимание уделял </a:t>
            </a:r>
            <a:r>
              <a:rPr b="1" lang="ru-RU" sz="2000" spc="-1" strike="noStrike">
                <a:solidFill>
                  <a:srgbClr val="000000"/>
                </a:solidFill>
                <a:latin typeface="Times New Roman"/>
                <a:ea typeface="Times New Roman"/>
              </a:rPr>
              <a:t>размерам аграрного производства, их оптимизации.</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 считал беспредметным спор о преимуществах крупного или мелкого производства; этот вопрос, по его мнению, давно решен. «Мы, несомненно, должны признать,— писал он,— что при прочих равных условиях хозяйство крупное почти всегда имеет преимущество перед хозяйством мелким. Это основной экономический закон, и было бы нелепостью его отрицать.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28760" y="857160"/>
            <a:ext cx="8229600" cy="5500800"/>
          </a:xfrm>
          <a:prstGeom prst="rect">
            <a:avLst/>
          </a:prstGeom>
          <a:noFill/>
          <a:ln w="0">
            <a:noFill/>
          </a:ln>
        </p:spPr>
        <p:txBody>
          <a:bodyPr anchor="t">
            <a:normAutofit fontScale="99000"/>
          </a:bodyPr>
          <a:p>
            <a:pPr marL="34560" indent="44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Когда мы говорим о преимуществах крупной формы производства над мелкой, для нас недостаточно признать самый факт преимущества. Необходимо задать себе и количественный вопрос — насколько значительно количественное выражение преимущества крупного хозяйства над мелким?</a:t>
            </a:r>
            <a:endParaRPr b="0" lang="en-US" sz="2000" spc="-1" strike="noStrike">
              <a:solidFill>
                <a:srgbClr val="000000"/>
              </a:solidFill>
              <a:latin typeface="Constantia"/>
            </a:endParaRPr>
          </a:p>
          <a:p>
            <a:pPr marL="34560" indent="44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А поскольку этот вопрос задается относительно сельского хозяйства, мы должны ответить на него, что в земледелии количественное выражение преимущества крупного хозяйства над мелким незначительно.</a:t>
            </a:r>
            <a:endParaRPr b="0" lang="en-US" sz="2000" spc="-1" strike="noStrike">
              <a:solidFill>
                <a:srgbClr val="000000"/>
              </a:solidFill>
              <a:latin typeface="Constantia"/>
            </a:endParaRPr>
          </a:p>
          <a:p>
            <a:pPr marL="34560" indent="44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Основная причина этого заключается в том, что в промышленности крупные формы производства убивали мелкие главным образом там, где была возможность концентрировать производство в пространстве, где можно было десятки тысяч лошадиных сил свести к одному паровому двигателю, где можно было тысячи рабочих поместить под одной крышей многоэтажного фабричного корпуса. Этим создавалась огромная экономия и значительно понижалась себестоимость изготовляемого продукта. В земледелии подобная концентрация немыслима.</a:t>
            </a:r>
            <a:endParaRPr b="0" lang="en-US" sz="2000" spc="-1" strike="noStrike">
              <a:solidFill>
                <a:srgbClr val="000000"/>
              </a:solidFill>
              <a:latin typeface="Constantia"/>
            </a:endParaRPr>
          </a:p>
          <a:p>
            <a:pPr marL="34560" indent="444600" algn="just">
              <a:lnSpc>
                <a:spcPct val="10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2T20:16:27Z</dcterms:created>
  <dc:creator>ASI3</dc:creator>
  <dc:description/>
  <dc:language>en-US</dc:language>
  <cp:lastModifiedBy>1</cp:lastModifiedBy>
  <dcterms:modified xsi:type="dcterms:W3CDTF">2014-01-19T16:53:41Z</dcterms:modified>
  <cp:revision>35</cp:revision>
  <dc:subject/>
  <dc:title>Презентация</dc:title>
</cp:coreProperties>
</file>